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188-73E9-44B6-95D1-D8ED98D1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64C-9480-48A4-99D3-9181E8C1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C0C-DBD3-4FAE-8D9A-E5F87E47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82C-1B24-401F-9707-A440AFE7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6CE9-3EC4-4DF1-9EB0-FF10B5E2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E38E-A9F1-464F-8318-B3E067B1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BB0E-940B-4D49-A82D-738C0144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1F66-8235-486A-8009-7103A1A4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43A3-1452-4F3A-ACBA-11AF5B35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374E-37AE-4BEA-8C9A-B53DCB2B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B688-7F17-4895-9317-A2648993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BF0-926E-49A6-AF12-6876E99F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C6C8-0568-4592-A6A9-B4B26D71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1A82-5E0F-4CA0-AC77-4C11F4BF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CFB2-DF5E-408C-AC07-E3A47E42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C180-6557-4015-BA40-F07EB04A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D129-7FDB-40AD-A503-7865E0C8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32A-8C1F-4B83-A914-7D95A992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07DC-5847-4038-8C6F-4D9C1E61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06E-4BC1-4212-A061-ABF3801A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36C-8F24-41D5-9F51-EAD4102E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FE8-289C-415D-8151-EDA58F5C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F18-003E-4984-B574-699A732E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B4F-EC99-4FC6-9C8F-36548AE5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765F-5CE1-4009-B00D-A79AE2D105FA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F737-11A4-4CE7-B9CE-182FDB58C1CC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lease Excuse My Dear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unt Sall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50 - 10(4-2) + 6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(9) - 3(6 - 1) + 1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8 + 24/4 * 2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30 - 3(4) + 2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0 - 4 *2 + 3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4 + 6(3 * 2) - 3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00 - 10 (2 * 3)+ 4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2624040"/>
          <a:ext cx="7696080" cy="14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24040"/>
                    <a:ext cx="76960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06400" y="1962000"/>
          <a:ext cx="7605720" cy="27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962000"/>
                    <a:ext cx="760572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7520" y="1962000"/>
          <a:ext cx="5703840" cy="27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962000"/>
                    <a:ext cx="570384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320" y="6858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8 - 6(2)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4 or 6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42880" y="1916280"/>
          <a:ext cx="633420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1916280"/>
                    <a:ext cx="633420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0000" y="1962000"/>
          <a:ext cx="6338880" cy="27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1962000"/>
                    <a:ext cx="633888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979720" y="1962000"/>
          <a:ext cx="3260880" cy="27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9720" y="1962000"/>
                    <a:ext cx="326088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22520" y="2755800"/>
          <a:ext cx="5975280" cy="11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2520" y="2755800"/>
                    <a:ext cx="59752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436840" y="1873080"/>
          <a:ext cx="4346640" cy="29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6840" y="1873080"/>
                    <a:ext cx="4346640" cy="29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68560" y="2536920"/>
          <a:ext cx="6881760" cy="15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536920"/>
                    <a:ext cx="6881760" cy="15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2590920"/>
          <a:ext cx="8229600" cy="14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229600" cy="14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5335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0 x 2 + 4 - 3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1 or 30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90720" y="6094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7 x 5 + 2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37 or 49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2/3 + 2 - 1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3 or 5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66680" y="6094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(2 + 3) x 6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0 or 30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6212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0 x 2 + 4 - 3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1 or 30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76212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 - 2 + 3 x 2 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5 or 4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6858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(5 + 2) - 3 x 4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6 or -5? 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7:53:26Z</dcterms:created>
  <dc:creator>PA Department of Education</dc:creator>
  <dc:description/>
  <dc:language>en-US</dc:language>
  <cp:lastModifiedBy>Parkland High School</cp:lastModifiedBy>
  <dcterms:modified xsi:type="dcterms:W3CDTF">2010-09-07T17:07:23Z</dcterms:modified>
  <cp:revision>8</cp:revision>
  <dc:subject/>
  <dc:title>Order of Operations</dc:title>
</cp:coreProperties>
</file>